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CDBF5-E9FD-4927-8FFD-F98706BF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69190-394C-4FD7-A2EC-C74D0AD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F568B-4C6F-4C1B-8814-50777FEE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BAD1D-F598-40F1-A6E6-33A599AF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DF634-1451-4B1C-87CD-31B3E5F4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0575A-8C30-49BE-A1F4-CBF0987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21D6F-2871-463F-836F-5637487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9473B-757F-4854-9067-BDE311C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022C3-AAE6-4FD6-B5A7-88B6757D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1CE66-23CA-48B7-9CCF-71D99286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DFBD8-55E3-4940-904C-1873F5C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64299-7FD7-45C5-8245-9AAABBCF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684FC-CEC3-4B4E-981E-46C1DA90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2AC52-1D94-41B7-AEC2-DF2928CD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56942-7F71-4507-995A-39798B11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B3DA8-C9D9-4C0E-A838-B7C4E670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8BFE2-2594-44D7-BA31-93809302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46355-6D59-4622-AFBD-4163EE1D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D47D3-1FAD-4803-8B5E-EC6C9BDD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D7B76-9686-4AF4-97C6-5B20AD53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480D6-4D36-461D-B8DF-4C5B3642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85E08-18F4-4EEB-98C8-D789083F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AA09-E4A8-4F3E-B503-B47EA47F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17064-E3A4-4711-B8A7-F59BD35B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66600"/>
                </a:solidFill>
                <a:latin typeface="Times New Roman"/>
              </a:rPr>
              <a:t>Ryn, 2 –5 października 2007 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0191-4EB5-45C1-80F7-D90033F2FF4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0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250560" y="5733720"/>
            <a:ext cx="856908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6666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666600"/>
                </a:solidFill>
                <a:latin typeface="Times New Roman"/>
              </a:rPr>
              <a:t>Ryn, 2 -5 października 2007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4CE6-42DE-4C62-8E8C-A602C81C9ED3}" type="slidenum">
              <a:rPr b="0" lang="pl-P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„</a:t>
            </a:r>
            <a:r>
              <a:rPr b="1" lang="pl-PL" sz="6600" spc="-1" strike="noStrike">
                <a:solidFill>
                  <a:srgbClr val="ffffff"/>
                </a:solidFill>
                <a:latin typeface="Comic Sans MS"/>
              </a:rPr>
              <a:t>Trzymaj Formę!”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OGÓLNOPOLSKI   PROGRAM   EDUKACYJN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promujący zbilansowaną dietę i aktywność fizyczną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Verdana"/>
              </a:rPr>
              <a:t>wśród młodzieży szkolnej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Sekcja Profilaktyki Zdrowotnej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Powiatowa Stacja Sanitarno-Epidemiologiczna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w Toruniu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4" descr="Trzymaj forme"/>
          <p:cNvPicPr/>
          <p:nvPr/>
        </p:nvPicPr>
        <p:blipFill>
          <a:blip r:embed="rId1"/>
          <a:stretch/>
        </p:blipFill>
        <p:spPr>
          <a:xfrm>
            <a:off x="3506760" y="277920"/>
            <a:ext cx="2130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X. MATERIAŁY I POMOCE PROGRAMOWE c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internetowa interaktywna strona edukacyjna 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(treści programowe, gry, na wirtualnych produktach informowanie o znakowaniu żywności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eaeaea"/>
                </a:solidFill>
                <a:latin typeface="Verdana"/>
              </a:rPr>
              <a:t>zalecenia dotyczące sprzedaży produktów spożywczych w obiektach szkolnych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55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1268280"/>
            <a:ext cx="23623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27040" y="1671480"/>
            <a:ext cx="80661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2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l-PL" sz="2600" spc="-1" strike="noStrike" u="sng">
                <a:solidFill>
                  <a:srgbClr val="ffffcc"/>
                </a:solidFill>
                <a:uFillTx/>
                <a:latin typeface="Verdana"/>
              </a:rPr>
              <a:t>Żywienie młodzieży – zbilansowana dieta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Talerz zdrowia – bloki produktó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zkład posiłków w ciągu dnia i % dobowego zapotrzebowania na energię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Dzienne zalecenia żywieniowe dla młodzieży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Rola podstawowych składników odżywczych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Zasady zdrowego żywienia (10 zasad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28840" indent="-37656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Alternatywne sposoby żywienia na przykładzie diety wegetariańskiej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4" descr="logo-trzymaj formę"/>
          <p:cNvPicPr/>
          <p:nvPr/>
        </p:nvPicPr>
        <p:blipFill>
          <a:blip r:embed="rId1"/>
          <a:stretch/>
        </p:blipFill>
        <p:spPr>
          <a:xfrm>
            <a:off x="7093080" y="907920"/>
            <a:ext cx="16192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Verdana"/>
              </a:rPr>
              <a:t>Zaburzenia stanu zdrowia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otyłość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adwaga (BMI)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niedobór masy ciał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anoreksja, bulimia – pomoc specjalist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ybrane elementy edukacji konsumenckiej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prawa konsumenta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578520" indent="-411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znakowanie etykiet z żywności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Picture 4" descr="logo-trzymaj formę"/>
          <p:cNvPicPr/>
          <p:nvPr/>
        </p:nvPicPr>
        <p:blipFill>
          <a:blip r:embed="rId1"/>
          <a:stretch/>
        </p:blipFill>
        <p:spPr>
          <a:xfrm>
            <a:off x="6588000" y="2492280"/>
            <a:ext cx="2286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Znaczenie aktywności fizycznej dla zdrowia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ożądana aktywność fizyczna dla dzieci i młodzieży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wydolności fizycznej (ćwiczenia)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test sprawności fizycznej (ćwiczenia)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ffff"/>
                </a:solidFill>
                <a:uFillTx/>
                <a:latin typeface="Verdana"/>
              </a:rPr>
              <a:t>Przykłady z omówieniem metodycznym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rzuch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820440" indent="-41472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35568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bioder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4" descr="logo-trzymaj formę"/>
          <p:cNvPicPr/>
          <p:nvPr/>
        </p:nvPicPr>
        <p:blipFill>
          <a:blip r:embed="rId1"/>
          <a:stretch/>
        </p:blipFill>
        <p:spPr>
          <a:xfrm>
            <a:off x="6804000" y="5373720"/>
            <a:ext cx="1908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. TREŚCI PROGRAMOWE cd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 u="sng">
                <a:solidFill>
                  <a:srgbClr val="ffffcc"/>
                </a:solidFill>
                <a:uFillTx/>
                <a:latin typeface="Verdana"/>
              </a:rPr>
              <a:t>Aktywność fizyczna cd</a:t>
            </a: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sni grzbiet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ięśni klatki piersiowej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oddechowe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utrzymywania poprawnej postawy ciała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ćwiczenia marszu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ciekawe przykłady lekcji WF,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Verdana"/>
              </a:rPr>
              <a:t>Piśmiennictwo uzupełniające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4" descr="logo-trzymaj formę"/>
          <p:cNvPicPr/>
          <p:nvPr/>
        </p:nvPicPr>
        <p:blipFill>
          <a:blip r:embed="rId1"/>
          <a:stretch/>
        </p:blipFill>
        <p:spPr>
          <a:xfrm>
            <a:off x="6516720" y="4724280"/>
            <a:ext cx="228600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cc"/>
                </a:solidFill>
                <a:latin typeface="Verdana"/>
              </a:rPr>
              <a:t>XI. PODSUMOWANIE I OCENA REALIZACJI   PROGRAMU  (na poziomie szkolnym, powiatowym, wojewódzkim   i krajowym):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Od 11 edycji obowiązuje wyłącznie sprawozdawczość elektronicz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3352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9" name="Picture 4" descr="logo-trzymaj formę"/>
          <p:cNvPicPr/>
          <p:nvPr/>
        </p:nvPicPr>
        <p:blipFill>
          <a:blip r:embed="rId1"/>
          <a:stretch/>
        </p:blipFill>
        <p:spPr>
          <a:xfrm>
            <a:off x="7236000" y="333360"/>
            <a:ext cx="19080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XI. PODSUMOWANIE I OCENA REALIZACJI PROGRAMU cd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Zmiany asortymentu produktów żywnościowych w sklepikach szkolnych, stołówkach, barach itp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80000"/>
              <a:buFont typeface="Wingdings" charset="2"/>
              <a:buChar char=""/>
              <a:tabLst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Uzyskanych efektów w zakresie aktywności fizycznej uczniów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pl-PL" sz="1800" spc="-1" strike="noStrike">
                <a:solidFill>
                  <a:srgbClr val="ffffcc"/>
                </a:solidFill>
                <a:latin typeface="Verdana"/>
              </a:rPr>
              <a:t>Wykonawcy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Dyrekcje i szkolni koordynatorz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Kierownicy stołówek szkolnych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Ajenci zbiorowego żywieni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Rada Rodziców, Rada Szkoły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omitet Rodzicielski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elęgniarki środowiska szkolnego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Władze samorządowe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- PI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90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6760"/>
                <a:tab algn="l" pos="3683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2" name="Picture 5" descr="logo-trzymaj formę"/>
          <p:cNvPicPr/>
          <p:nvPr/>
        </p:nvPicPr>
        <p:blipFill>
          <a:blip r:embed="rId1"/>
          <a:stretch/>
        </p:blipFill>
        <p:spPr>
          <a:xfrm>
            <a:off x="6300720" y="4869000"/>
            <a:ext cx="24703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Trzymaj forme"/>
          <p:cNvPicPr/>
          <p:nvPr/>
        </p:nvPicPr>
        <p:blipFill>
          <a:blip r:embed="rId1"/>
          <a:stretch/>
        </p:blipFill>
        <p:spPr>
          <a:xfrm>
            <a:off x="179280" y="765000"/>
            <a:ext cx="2735280" cy="14623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3421440" y="523800"/>
            <a:ext cx="54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ogólnopolski program edukacyjny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promujący zbilansowaną dietę i aktywność fizyczną </a:t>
            </a:r>
            <a:br>
              <a:rPr sz="1600"/>
            </a:br>
            <a:r>
              <a:rPr b="1" lang="pl-PL" sz="1600" spc="-1" strike="noStrike">
                <a:solidFill>
                  <a:srgbClr val="ffffcc"/>
                </a:solidFill>
                <a:latin typeface="Verdana"/>
              </a:rPr>
              <a:t>wśród młodzieży szkolnej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00000" y="2106720"/>
            <a:ext cx="755964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Sekcja Profilaktyki Zdrowotne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Powiatowa Stacja Sanitarno-Epidemiologiczna </a:t>
            </a:r>
            <a:br>
              <a:rPr sz="2800"/>
            </a:br>
            <a:r>
              <a:rPr b="1" lang="pl-PL" sz="2800" spc="-1" strike="noStrike">
                <a:solidFill>
                  <a:srgbClr val="ffffcc"/>
                </a:solidFill>
                <a:latin typeface="Verdana"/>
              </a:rPr>
              <a:t>w Toruni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684360" y="270828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CEL GŁÓWN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Zwiększenie świadomości dotyczącej wpływu żywienia i aktywności fizycznej na zdrow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5" descr="logo-trzymaj formę"/>
          <p:cNvPicPr/>
          <p:nvPr/>
        </p:nvPicPr>
        <p:blipFill>
          <a:blip r:embed="rId1"/>
          <a:stretch/>
        </p:blipFill>
        <p:spPr>
          <a:xfrm>
            <a:off x="5796000" y="836640"/>
            <a:ext cx="2514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Verdana"/>
              </a:rPr>
              <a:t>II. CELE SZCZEGÓŁOW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Pogłębienie wiedzy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w zakresie znaczenia zbilansowanej diety oraz aktywności fizycznej dla organizmu człowiek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Kształtowanie zmiany postaw i zachowań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wiązanych z prawidłowym żywieniem, odpowiednią jakością zdrowotną żywności i aktywnością fizyczn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Dostarczenie wiedzy i umiejętności korzystania  </a:t>
            </a:r>
            <a:br>
              <a:rPr sz="2000"/>
            </a:b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z informacji</a:t>
            </a:r>
            <a:r>
              <a:rPr b="0" lang="pl-PL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zamieszczonych na opakowaniach produktów spożywczych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logo-trzymaj formę"/>
          <p:cNvPicPr/>
          <p:nvPr/>
        </p:nvPicPr>
        <p:blipFill>
          <a:blip r:embed="rId1"/>
          <a:stretch/>
        </p:blipFill>
        <p:spPr>
          <a:xfrm>
            <a:off x="7020000" y="981000"/>
            <a:ext cx="1781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116000" y="1989000"/>
            <a:ext cx="727236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II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ADRESACI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Uczniowie szkół podstawowych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(V-VIII) </a:t>
            </a: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 oraz ich rodzice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i opiekunow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V.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UCZESTNIC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dyrekcje szkół, nauczyciele, społeczność         </a:t>
            </a: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szkolna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pielęgniarki środowiska szkolnego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pl-PL" sz="2200" spc="-1" strike="noStrike">
                <a:solidFill>
                  <a:srgbClr val="ffffff"/>
                </a:solidFill>
                <a:latin typeface="Verdana"/>
              </a:rPr>
              <a:t> władze wojewódzkie i lokalne oraz inni wg   możliwości i potrzeb środowiskowy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logo-trzymaj formę"/>
          <p:cNvPicPr/>
          <p:nvPr/>
        </p:nvPicPr>
        <p:blipFill>
          <a:blip r:embed="rId1"/>
          <a:stretch/>
        </p:blipFill>
        <p:spPr>
          <a:xfrm>
            <a:off x="7164360" y="1125360"/>
            <a:ext cx="1548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42920" y="1557360"/>
            <a:ext cx="73454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. ORGANIZ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Główny Inspektorat Sanitarn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buClr>
                <a:srgbClr val="eaeaea"/>
              </a:buClr>
              <a:buSzPct val="70000"/>
              <a:buFont typeface="Verdana"/>
              <a:buChar char="-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owarzyszenie „Polska Federacja Producentów    Żywności”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</a:t>
            </a:r>
            <a:r>
              <a:rPr b="1" lang="pl-PL" sz="2000" spc="-1" strike="noStrike">
                <a:solidFill>
                  <a:srgbClr val="ffffcc"/>
                </a:solidFill>
                <a:latin typeface="Verdana"/>
              </a:rPr>
              <a:t>. </a:t>
            </a: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KOORDYNATO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wojewódzki - Wojewódzki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powiatowy - Powiatowe Stacje Sanitarno-Epidemiologiczne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7840" indent="-17784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poziom szkolny - dyrektorzy szkół i nauczycie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logo-trzymaj formę"/>
          <p:cNvPicPr/>
          <p:nvPr/>
        </p:nvPicPr>
        <p:blipFill>
          <a:blip r:embed="rId1"/>
          <a:stretch/>
        </p:blipFill>
        <p:spPr>
          <a:xfrm>
            <a:off x="6084720" y="5229360"/>
            <a:ext cx="22860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17" name="Object 6"/>
          <p:cNvGraphicFramePr/>
          <p:nvPr/>
        </p:nvGraphicFramePr>
        <p:xfrm>
          <a:off x="3997440" y="1773360"/>
          <a:ext cx="40352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1773360"/>
                    <a:ext cx="40352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7"/>
          <p:cNvSpPr/>
          <p:nvPr/>
        </p:nvSpPr>
        <p:spPr>
          <a:xfrm>
            <a:off x="971640" y="2060640"/>
            <a:ext cx="756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187280" y="2060640"/>
            <a:ext cx="727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VIII. PARTNERZY PROGRAM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Edukacji Narodow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Żywności i Żywien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nisterstwo Sportu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Instytut Matki i Dziec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zkoła Główna Gospodarstwa Wiejskiego    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ademia Wychowania Fizyczneg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 Warszawi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esięcznik „Lider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9" descr="logo-trzymaj formę"/>
          <p:cNvPicPr/>
          <p:nvPr/>
        </p:nvPicPr>
        <p:blipFill>
          <a:blip r:embed="rId3"/>
          <a:stretch/>
        </p:blipFill>
        <p:spPr>
          <a:xfrm>
            <a:off x="6156360" y="5229360"/>
            <a:ext cx="20876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82692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Verdana"/>
              </a:rPr>
              <a:t>IX. MATERIAŁY I POMOCE  PROGRAMOW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oradnik dla szkolnych koordynatorów programu, nauczycieli/ pielęgniarek środowiska szkolnego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ateriały dla młodzieży i rodziców dotyczące zbilansowanej diety i znaczenia aktywności fizycznej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buClr>
                <a:srgbClr val="ffffcc"/>
              </a:buClr>
              <a:buSzPct val="150000"/>
              <a:buFont typeface="Wingdings" charset="2"/>
              <a:buChar char=""/>
              <a:tabLst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lakat piramida zdrowi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457200">
              <a:tabLst>
                <a:tab algn="l" pos="0"/>
                <a:tab algn="l" pos="35568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" descr="logo-trzymaj formę"/>
          <p:cNvPicPr/>
          <p:nvPr/>
        </p:nvPicPr>
        <p:blipFill>
          <a:blip r:embed="rId1"/>
          <a:stretch/>
        </p:blipFill>
        <p:spPr>
          <a:xfrm>
            <a:off x="6227640" y="4797360"/>
            <a:ext cx="23180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707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0" lang="pl-PL" sz="4400" spc="-1" strike="noStrike">
                <a:solidFill>
                  <a:srgbClr val="ffffcc"/>
                </a:solidFill>
                <a:latin typeface="Verdana"/>
              </a:rPr>
              <a:t>Trzymaj Formę!”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1374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usiak Barbara</dc:creator>
  <dc:description/>
  <dc:language>en-US</dc:language>
  <cp:lastModifiedBy>Barbara Andrusiak</cp:lastModifiedBy>
  <dcterms:modified xsi:type="dcterms:W3CDTF">2022-11-22T06:20:26Z</dcterms:modified>
  <cp:revision>160</cp:revision>
  <dc:subject/>
  <dc:title>PowerPoint Presentation</dc:title>
</cp:coreProperties>
</file>